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AF4-ADAC-4394-822D-5B38BAD5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516-D36B-41A7-A94A-629506B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394-A9F7-4C70-BC2B-2F12E6F1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4CE-C0FD-4156-881C-B7F6A518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191-979B-4ED8-A4D5-93BA976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919-A5FF-46D5-95CE-56F1AF4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C59-74F6-49A5-B483-22E698C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725-6CBF-4679-B7C4-99CEFA0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526-0614-41AA-AC17-171E3E1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425-4E1C-4FEC-9BFA-531CB87A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CEF-1920-476F-A169-FDABCF9A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58E-62DA-4DAC-9D1E-FBF9C70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EFB6-3941-4717-B907-7F31C922F9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49560" y="4881600"/>
            <a:ext cx="6705360" cy="15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son Clar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ason@essentialmath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approxi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5440" y="3192480"/>
            <a:ext cx="1440" cy="2170080"/>
          </a:xfrm>
          <a:custGeom>
            <a:avLst/>
            <a:gdLst/>
            <a:ahLst/>
            <a:rect l="l" t="t" r="r" b="b"/>
            <a:pathLst>
              <a:path w="1" h="1367">
                <a:moveTo>
                  <a:pt x="0" y="0"/>
                </a:moveTo>
                <a:lnTo>
                  <a:pt x="0" y="1367"/>
                </a:lnTo>
              </a:path>
            </a:pathLst>
          </a:cu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13240" y="3641400"/>
            <a:ext cx="1841400" cy="859320"/>
            <a:chOff x="1713240" y="3641400"/>
            <a:chExt cx="1841400" cy="859320"/>
          </a:xfrm>
        </p:grpSpPr>
        <p:sp>
          <p:nvSpPr>
            <p:cNvPr id="114" name=""/>
            <p:cNvSpPr/>
            <p:nvPr/>
          </p:nvSpPr>
          <p:spPr>
            <a:xfrm flipV="1">
              <a:off x="1812240" y="3732480"/>
              <a:ext cx="1632600" cy="6836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008400">
              <a:off x="1722240" y="437220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1008400">
              <a:off x="3425760" y="365076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1000" y="3639960"/>
            <a:ext cx="1162800" cy="473760"/>
            <a:chOff x="3411000" y="3639960"/>
            <a:chExt cx="1162800" cy="473760"/>
          </a:xfrm>
        </p:grpSpPr>
        <p:sp>
          <p:nvSpPr>
            <p:cNvPr id="118" name=""/>
            <p:cNvSpPr/>
            <p:nvPr/>
          </p:nvSpPr>
          <p:spPr>
            <a:xfrm>
              <a:off x="3523680" y="3731040"/>
              <a:ext cx="1007280" cy="302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298400">
              <a:off x="3428640" y="365760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298400">
              <a:off x="4436640" y="397656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564520" y="3809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434120" y="3965760"/>
            <a:ext cx="1177560" cy="129960"/>
            <a:chOff x="4434120" y="3965760"/>
            <a:chExt cx="1177560" cy="129960"/>
          </a:xfrm>
        </p:grpSpPr>
        <p:sp>
          <p:nvSpPr>
            <p:cNvPr id="123" name=""/>
            <p:cNvSpPr/>
            <p:nvPr/>
          </p:nvSpPr>
          <p:spPr>
            <a:xfrm>
              <a:off x="4536000" y="4034520"/>
              <a:ext cx="1051200" cy="72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320400">
              <a:off x="4439160" y="397080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400">
              <a:off x="5487120" y="397116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257800" y="3048120"/>
            <a:ext cx="623880" cy="1955520"/>
          </a:xfrm>
          <a:custGeom>
            <a:avLst/>
            <a:gdLst/>
            <a:ahLst/>
            <a:rect l="l" t="t" r="r" b="b"/>
            <a:pathLst>
              <a:path w="187" h="601">
                <a:moveTo>
                  <a:pt x="187" y="60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84920" y="3095640"/>
            <a:ext cx="688680" cy="2030400"/>
          </a:xfrm>
          <a:custGeom>
            <a:avLst/>
            <a:gdLst/>
            <a:ahLst/>
            <a:rect l="l" t="t" r="r" b="b"/>
            <a:pathLst>
              <a:path w="434" h="1279">
                <a:moveTo>
                  <a:pt x="0" y="0"/>
                </a:moveTo>
                <a:cubicBezTo>
                  <a:pt x="43" y="56"/>
                  <a:pt x="202" y="238"/>
                  <a:pt x="260" y="338"/>
                </a:cubicBezTo>
                <a:cubicBezTo>
                  <a:pt x="318" y="438"/>
                  <a:pt x="324" y="507"/>
                  <a:pt x="351" y="598"/>
                </a:cubicBezTo>
                <a:cubicBezTo>
                  <a:pt x="378" y="689"/>
                  <a:pt x="408" y="773"/>
                  <a:pt x="421" y="886"/>
                </a:cubicBezTo>
                <a:cubicBezTo>
                  <a:pt x="434" y="999"/>
                  <a:pt x="427" y="1197"/>
                  <a:pt x="428" y="1279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88440" y="502920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near Approxi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4160" y="29718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discussion to positional goals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3067200"/>
                <a:ext cx="3162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695760"/>
                <a:ext cx="4114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1828800"/>
                <a:ext cx="449604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t quite r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ian defines changes in     relative to changes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know how a desired change 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aps to change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that the equation of inverse kinematics is defined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we nee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562200" y="2476440"/>
                <a:ext cx="495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67360" y="3581280"/>
                <a:ext cx="495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10160" y="51814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24560" y="4610160"/>
                <a:ext cx="2171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248520" y="201924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90720" y="358128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Jacobian Probl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system is over specified (under defin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liorate problem by limiting joints.  E.g.  Specify elbow as a 1DOF j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guarantee it is invertib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not a square matr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eat.  Pseudo Inver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so can be inve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y is it okay to use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of Virtual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66880" y="1905120"/>
                <a:ext cx="3009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J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90720" y="2514600"/>
                <a:ext cx="1218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inciple of Virtual Wor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s towards the right solution. (I.e. It’s the right idea, if not completely accu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small steps to minimize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error, and if too large adjust step size, or siz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76440" y="5105520"/>
                <a:ext cx="2667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6480" y="4648320"/>
                <a:ext cx="647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lculating 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ngle        and axis of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relative to          as defin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of       relative to change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one column of Jaco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01840" y="4038480"/>
            <a:ext cx="1800" cy="2170080"/>
          </a:xfrm>
          <a:custGeom>
            <a:avLst/>
            <a:gdLst/>
            <a:ahLst/>
            <a:rect l="l" t="t" r="r" b="b"/>
            <a:pathLst>
              <a:path w="1" h="1367">
                <a:moveTo>
                  <a:pt x="0" y="0"/>
                </a:moveTo>
                <a:lnTo>
                  <a:pt x="0" y="1367"/>
                </a:lnTo>
              </a:path>
            </a:pathLst>
          </a:cu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49640" y="4487760"/>
            <a:ext cx="1841400" cy="859320"/>
            <a:chOff x="2249640" y="4487760"/>
            <a:chExt cx="1841400" cy="859320"/>
          </a:xfrm>
        </p:grpSpPr>
        <p:sp>
          <p:nvSpPr>
            <p:cNvPr id="158" name=""/>
            <p:cNvSpPr/>
            <p:nvPr/>
          </p:nvSpPr>
          <p:spPr>
            <a:xfrm flipV="1">
              <a:off x="2348640" y="4578840"/>
              <a:ext cx="1632600" cy="6836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008400">
              <a:off x="2258640" y="521856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008400">
              <a:off x="3962160" y="449712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947400" y="4485960"/>
            <a:ext cx="1162800" cy="473760"/>
            <a:chOff x="3947400" y="4485960"/>
            <a:chExt cx="1162800" cy="473760"/>
          </a:xfrm>
        </p:grpSpPr>
        <p:sp>
          <p:nvSpPr>
            <p:cNvPr id="162" name=""/>
            <p:cNvSpPr/>
            <p:nvPr/>
          </p:nvSpPr>
          <p:spPr>
            <a:xfrm>
              <a:off x="4060080" y="4577040"/>
              <a:ext cx="1007280" cy="302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298400">
              <a:off x="3965040" y="450360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298400">
              <a:off x="4973040" y="482256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31000" y="4952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13000" y="4876920"/>
            <a:ext cx="2727360" cy="393480"/>
          </a:xfrm>
          <a:custGeom>
            <a:avLst/>
            <a:gdLst/>
            <a:ahLst/>
            <a:rect l="l" t="t" r="r" b="b"/>
            <a:pathLst>
              <a:path w="1718" h="248">
                <a:moveTo>
                  <a:pt x="0" y="248"/>
                </a:moveTo>
                <a:lnTo>
                  <a:pt x="1718" y="0"/>
                </a:lnTo>
              </a:path>
            </a:pathLst>
          </a:cu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74960" y="50925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9080" y="44211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45160" y="3930480"/>
            <a:ext cx="296640" cy="954360"/>
          </a:xfrm>
          <a:custGeom>
            <a:avLst/>
            <a:gdLst/>
            <a:ahLst/>
            <a:rect l="l" t="t" r="r" b="b"/>
            <a:pathLst>
              <a:path w="187" h="601">
                <a:moveTo>
                  <a:pt x="187" y="601"/>
                </a:moveTo>
                <a:lnTo>
                  <a:pt x="0" y="0"/>
                </a:lnTo>
              </a:path>
            </a:pathLst>
          </a:cu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4191120"/>
            <a:ext cx="152280" cy="684000"/>
          </a:xfrm>
          <a:custGeom>
            <a:avLst/>
            <a:gdLst/>
            <a:ahLst/>
            <a:rect l="l" t="t" r="r" b="b"/>
            <a:pathLst>
              <a:path w="129" h="508">
                <a:moveTo>
                  <a:pt x="0" y="508"/>
                </a:moveTo>
                <a:lnTo>
                  <a:pt x="129" y="0"/>
                </a:lnTo>
              </a:path>
            </a:pathLst>
          </a:cu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3280" y="3809880"/>
            <a:ext cx="33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9080" y="4025880"/>
            <a:ext cx="33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19920" y="1905120"/>
                <a:ext cx="533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57680" y="1884240"/>
                <a:ext cx="571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172200" y="2362320"/>
                <a:ext cx="13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66680" y="2373480"/>
                <a:ext cx="648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67160" y="233028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05440" y="276372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90920" y="281952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considering positional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following variabl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end effect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ith Joint pos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ith Joint axis of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09560" y="3527280"/>
                <a:ext cx="457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589040" y="3102120"/>
                <a:ext cx="457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90840" y="4027320"/>
                <a:ext cx="533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Jacobi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error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rror &gt; tolerance th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4 till within tole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76720" y="304812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86480" y="4191120"/>
                <a:ext cx="2666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3657600"/>
                <a:ext cx="3467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15000" y="4876920"/>
                <a:ext cx="2133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∂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66880" y="2514600"/>
                <a:ext cx="3162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ors are animated in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s are independent of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have more realistic response to what the Actors are interacting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 mechanism for reacting to goals specified during the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      to entir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unti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max steps is rea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76720" y="1981080"/>
                <a:ext cx="2171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457360" y="259092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733920" y="3124080"/>
                <a:ext cx="2552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end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joint angle rates.  Configuration produced may not be natural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gain values for each joint. Add “stiffness” I.e. Bias which joints are 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constraints, Clamp joint ang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se ideas slow down convergence of the algorithm.  Need more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force.       transforms to internal velo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20680" y="4964040"/>
                <a:ext cx="647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200400" y="4898880"/>
                <a:ext cx="723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e last th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stated previously, the Jacobian is a linear approximation to the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pseudo inverse is an approximation to solve for intractability of the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already cheating, why not cheat more?  Can simply use        as approximation.  Slower convergence, but much cheaper to compute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5760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52680" y="51055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yclic Coordinate Desc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cobian is hard.  It deals with entire system as a whole.  Good results, more complicated to code, and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’s too much work, lets deal with each joint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only.  Not as mathematically grounded as the Jacob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C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problem to local consideration at each joint.  Start at leaf and move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change in joint needed to minimize “error”.  Error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619600" y="3581280"/>
                <a:ext cx="2514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38360" y="4724280"/>
                <a:ext cx="2857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19280" y="5638680"/>
                <a:ext cx="2628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C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rotation        necessary to align      i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y current joint by        and adjust entire chain below.  This is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p chain and rep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over entire chain t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489560" y="3314880"/>
                <a:ext cx="164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489560" y="3314880"/>
                <a:ext cx="164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05240" y="1981080"/>
                <a:ext cx="800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429000" y="2438280"/>
                <a:ext cx="533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095560" y="2438280"/>
                <a:ext cx="495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105520" y="304812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210360" y="4686480"/>
                <a:ext cx="25527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end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tty easy.   Much simpler than the Jacob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.  Takes more updates of chain and steps than Jacobian does.  Simpler individual steps, need more of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end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end joints first.  Heuristic inherently favors them.  Local minima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 unnatural configurations.  E.g Wrist bent oddly to reach goal.  Worse than Jacobian about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Gauss-Seidel.  SOR can he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Jeff La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win3d.com/gdm/1998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thropomorphi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2 solutions are general purpos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games have people.  We know something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principle of computer science.  Use knowledge of problem domain to simplify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hierarchical skeleton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joint is defined local to its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 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s set for entire structu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global position of end j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95480" y="3146400"/>
                <a:ext cx="571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077840" y="4202280"/>
                <a:ext cx="495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471312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838760" y="3646440"/>
                <a:ext cx="57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inbow 6: Lockdow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wrist alone. Inaccurate, but good enough and difficult to get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lbow as a 1DOF joint.  Not precisely accurate.  But good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the shoulder as 3DOF joint with no constraints.  Again, not entirely true but good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inbow 6: Lockdow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 can be run through same algorithm as Arm.  (most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ee can be simulated as a 1DOF joint. (Elb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 can be simulated as a 3DOF joint (Shoul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second pass to fix Ank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defines the distance between the shoulder and the end eff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Trig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Cos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992840" y="3192120"/>
            <a:ext cx="1841400" cy="859320"/>
            <a:chOff x="4992840" y="3192120"/>
            <a:chExt cx="1841400" cy="859320"/>
          </a:xfrm>
        </p:grpSpPr>
        <p:sp>
          <p:nvSpPr>
            <p:cNvPr id="237" name=""/>
            <p:cNvSpPr/>
            <p:nvPr/>
          </p:nvSpPr>
          <p:spPr>
            <a:xfrm flipV="1">
              <a:off x="5091840" y="3283200"/>
              <a:ext cx="1632600" cy="6836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008400">
              <a:off x="5001840" y="392292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1008400">
              <a:off x="6705360" y="320148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690600" y="3190680"/>
            <a:ext cx="1162800" cy="473760"/>
            <a:chOff x="6690600" y="3190680"/>
            <a:chExt cx="1162800" cy="473760"/>
          </a:xfrm>
        </p:grpSpPr>
        <p:sp>
          <p:nvSpPr>
            <p:cNvPr id="241" name=""/>
            <p:cNvSpPr/>
            <p:nvPr/>
          </p:nvSpPr>
          <p:spPr>
            <a:xfrm>
              <a:off x="6803280" y="3281760"/>
              <a:ext cx="1007280" cy="302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298400">
              <a:off x="6708240" y="320832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298400">
              <a:off x="7716240" y="352728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051520" y="3589200"/>
            <a:ext cx="2732040" cy="395280"/>
          </a:xfrm>
          <a:custGeom>
            <a:avLst/>
            <a:gdLst/>
            <a:ahLst/>
            <a:rect l="l" t="t" r="r" b="b"/>
            <a:pathLst>
              <a:path w="1721" h="249">
                <a:moveTo>
                  <a:pt x="0" y="249"/>
                </a:moveTo>
                <a:lnTo>
                  <a:pt x="1721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360600"/>
            <a:ext cx="663480" cy="231840"/>
          </a:xfrm>
          <a:custGeom>
            <a:avLst/>
            <a:gdLst/>
            <a:ahLst/>
            <a:rect l="l" t="t" r="r" b="b"/>
            <a:pathLst>
              <a:path w="418" h="146">
                <a:moveTo>
                  <a:pt x="0" y="43"/>
                </a:moveTo>
                <a:cubicBezTo>
                  <a:pt x="84" y="95"/>
                  <a:pt x="170" y="146"/>
                  <a:pt x="240" y="139"/>
                </a:cubicBezTo>
                <a:cubicBezTo>
                  <a:pt x="310" y="132"/>
                  <a:pt x="381" y="29"/>
                  <a:pt x="418" y="0"/>
                </a:cubicBezTo>
              </a:path>
            </a:pathLst>
          </a:custGeom>
          <a:noFill/>
          <a:ln cap="rnd" w="1908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95920" y="32767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25080" y="3332160"/>
            <a:ext cx="3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240" y="312408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80280" y="3787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4680" y="4419720"/>
                <a:ext cx="52956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at, simply run one step of the CCD algorithm on the shoul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!  Simple, accurate within a tolerable margin, and che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man, Chris,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verse Kinematics and Geometric Constraints for Articulated Figure Manipulation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imon Fraser University. 199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edith, Michael and Maddock, Steve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Real-Time Inverse Kinematics: The Return of the Jacobian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niversity of Shef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lani, Goswami, and Badler,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l-Time Inverse Kinematics Techniques for Anthropomorphic Limbs”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Pennsylvania. 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w, Jonathan, 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 My God!  I Inverted Kine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Game Developer.  September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, Rick,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puter Animation: Algorithms and Techniq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, Morgan-Kaufmann, San Francisco, 200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e kinematic chain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21800">
            <a:off x="1752480" y="3962160"/>
            <a:ext cx="1752840" cy="457200"/>
          </a:xfrm>
          <a:prstGeom prst="hexagon">
            <a:avLst>
              <a:gd name="adj" fmla="val 191692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4782200">
            <a:off x="1604880" y="5098680"/>
            <a:ext cx="1752480" cy="457200"/>
          </a:xfrm>
          <a:prstGeom prst="hexagon">
            <a:avLst>
              <a:gd name="adj" fmla="val 191653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1439200">
            <a:off x="3090960" y="3384720"/>
            <a:ext cx="1752480" cy="457200"/>
          </a:xfrm>
          <a:prstGeom prst="hexagon">
            <a:avLst>
              <a:gd name="adj" fmla="val 191653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80400">
            <a:off x="4548240" y="3537000"/>
            <a:ext cx="1752480" cy="457200"/>
          </a:xfrm>
          <a:prstGeom prst="hexagon">
            <a:avLst>
              <a:gd name="adj" fmla="val 191653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61600">
            <a:off x="5909760" y="3841920"/>
            <a:ext cx="1752840" cy="457200"/>
          </a:xfrm>
          <a:prstGeom prst="hexagon">
            <a:avLst>
              <a:gd name="adj" fmla="val 191692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769400">
            <a:off x="7358040" y="3841560"/>
            <a:ext cx="990720" cy="53316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119" y="0"/>
                </a:lnTo>
                <a:lnTo>
                  <a:pt x="21600" y="10800"/>
                </a:lnTo>
                <a:lnTo>
                  <a:pt x="9119" y="21600"/>
                </a:lnTo>
                <a:lnTo>
                  <a:pt x="0" y="21600"/>
                </a:lnTo>
                <a:lnTo>
                  <a:pt x="12481" y="10800"/>
                </a:lnTo>
                <a:close/>
              </a:path>
            </a:pathLst>
          </a:cu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62960" y="445140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04760" y="5708520"/>
                <a:ext cx="156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" y="39942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752480" y="2971800"/>
                <a:ext cx="163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285768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762440" y="4114800"/>
                <a:ext cx="163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s can be thought of as driving the kinematics in a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reaction to world. I.e. Position a limb based on a goal defined by game sit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method given goal position to update     to achiev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00480" y="5105520"/>
                <a:ext cx="495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ma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nverse Kinematics is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As a general problem this is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90840" y="198108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52720" y="3105000"/>
                <a:ext cx="21718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677960" y="3925800"/>
            <a:ext cx="1440" cy="2170080"/>
          </a:xfrm>
          <a:custGeom>
            <a:avLst/>
            <a:gdLst/>
            <a:ahLst/>
            <a:rect l="l" t="t" r="r" b="b"/>
            <a:pathLst>
              <a:path w="1" h="1367">
                <a:moveTo>
                  <a:pt x="0" y="0"/>
                </a:moveTo>
                <a:lnTo>
                  <a:pt x="0" y="1367"/>
                </a:lnTo>
              </a:path>
            </a:pathLst>
          </a:cu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611360" y="4622760"/>
            <a:ext cx="1920960" cy="538200"/>
            <a:chOff x="1611360" y="4622760"/>
            <a:chExt cx="1920960" cy="538200"/>
          </a:xfrm>
        </p:grpSpPr>
        <p:sp>
          <p:nvSpPr>
            <p:cNvPr id="74" name=""/>
            <p:cNvSpPr/>
            <p:nvPr/>
          </p:nvSpPr>
          <p:spPr>
            <a:xfrm flipV="1">
              <a:off x="1703520" y="4697280"/>
              <a:ext cx="1725480" cy="3938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11360" y="504180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13160" y="462276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401640" y="4605120"/>
            <a:ext cx="1162080" cy="473400"/>
            <a:chOff x="3401640" y="4605120"/>
            <a:chExt cx="1162080" cy="473400"/>
          </a:xfrm>
        </p:grpSpPr>
        <p:sp>
          <p:nvSpPr>
            <p:cNvPr id="78" name=""/>
            <p:cNvSpPr/>
            <p:nvPr/>
          </p:nvSpPr>
          <p:spPr>
            <a:xfrm>
              <a:off x="3513960" y="4695840"/>
              <a:ext cx="1006920" cy="3020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298400">
              <a:off x="3419280" y="4622400"/>
              <a:ext cx="11844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298400">
              <a:off x="4426920" y="494172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1473400">
            <a:off x="5106600" y="4001760"/>
            <a:ext cx="119160" cy="119160"/>
          </a:xfrm>
          <a:prstGeom prst="ellipse">
            <a:avLst/>
          </a:prstGeom>
          <a:solidFill>
            <a:srgbClr val="000000"/>
          </a:solidFill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4720" y="38498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2280" y="4687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06560" y="4535640"/>
            <a:ext cx="1219320" cy="304560"/>
          </a:xfrm>
          <a:prstGeom prst="line">
            <a:avLst/>
          </a:prstGeom>
          <a:ln cap="sq"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94960" y="4875120"/>
            <a:ext cx="662040" cy="235080"/>
          </a:xfrm>
          <a:prstGeom prst="line">
            <a:avLst/>
          </a:prstGeom>
          <a:ln cap="sq"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649760" y="4763880"/>
            <a:ext cx="609480" cy="75960"/>
          </a:xfrm>
          <a:prstGeom prst="line">
            <a:avLst/>
          </a:prstGeom>
          <a:ln cap="sq"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5080" y="437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4992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0760" y="450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29080" y="4808160"/>
            <a:ext cx="1162440" cy="254880"/>
            <a:chOff x="4429080" y="4808160"/>
            <a:chExt cx="1162440" cy="254880"/>
          </a:xfrm>
        </p:grpSpPr>
        <p:sp>
          <p:nvSpPr>
            <p:cNvPr id="91" name=""/>
            <p:cNvSpPr/>
            <p:nvPr/>
          </p:nvSpPr>
          <p:spPr>
            <a:xfrm flipV="1">
              <a:off x="4527720" y="4875120"/>
              <a:ext cx="1043640" cy="1252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486000">
              <a:off x="4430880" y="494172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486000">
              <a:off x="5470560" y="480996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66800" y="5102280"/>
            <a:ext cx="175284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84440" y="4447800"/>
            <a:ext cx="990720" cy="2286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3800" y="5000400"/>
            <a:ext cx="744840" cy="279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05200" y="4764240"/>
            <a:ext cx="37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MS Shell Dlg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2000" y="4514760"/>
            <a:ext cx="37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MS Shell Dlg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43520" y="4916520"/>
            <a:ext cx="37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MS Shell Dlg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pes of solu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 that can be directly s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red, practically impossible as a general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ortunately only practical option for general sol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e Common 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ian (Numer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ic Coordinate Descent. (Numer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ropomorphic. (Analytical?  Depe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  A linear approximation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rix of partial derivatives of entir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case, defined relativ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s how     changes relative to instantaneous changes in th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2400" y="1981080"/>
                <a:ext cx="45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38560" y="53341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667560" y="365760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390840" y="4229280"/>
                <a:ext cx="457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9:57:16Z</dcterms:created>
  <dc:creator>Jason Clark</dc:creator>
  <dc:description/>
  <dc:language>en-US</dc:language>
  <cp:lastModifiedBy>Jim Van Verth</cp:lastModifiedBy>
  <dcterms:modified xsi:type="dcterms:W3CDTF">2005-03-14T01:57:19Z</dcterms:modified>
  <cp:revision>89</cp:revision>
  <dc:subject/>
  <dc:title>PowerPoint Presentation</dc:title>
</cp:coreProperties>
</file>