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6B84-BEC0-4F0A-B5BD-927ADE217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E56-7F53-434B-8E2F-579C0B4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183-EFC1-4F41-851B-06EA74C5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DDC-70FC-443E-A9BE-9DA952DD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920-04C2-4FD3-903D-2F39DE3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81B-2E5B-4305-97E4-AF44191D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551-CEE4-45FC-B9C5-80D13275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A75-EF26-43D6-B708-CBCBB440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BE8-0D47-4C1B-8317-E7B497C8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A74-CD98-4629-A5A3-3EE653D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ADD-8C58-4DDE-AE6E-AB83966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7F8-FEC7-4168-A12A-5ECB3BD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0B37-EEFA-41A7-81FB-907952763D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49560" y="4881600"/>
            <a:ext cx="6705360" cy="15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son Clar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jason@essentialmath.c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ear approxi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5440" y="3192480"/>
            <a:ext cx="1440" cy="2170080"/>
          </a:xfrm>
          <a:custGeom>
            <a:avLst/>
            <a:gdLst/>
            <a:ahLst/>
            <a:rect l="l" t="t" r="r" b="b"/>
            <a:pathLst>
              <a:path w="1" h="1367">
                <a:moveTo>
                  <a:pt x="0" y="0"/>
                </a:moveTo>
                <a:lnTo>
                  <a:pt x="0" y="1367"/>
                </a:lnTo>
              </a:path>
            </a:pathLst>
          </a:cu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13240" y="3641400"/>
            <a:ext cx="1841400" cy="859320"/>
            <a:chOff x="1713240" y="3641400"/>
            <a:chExt cx="1841400" cy="859320"/>
          </a:xfrm>
        </p:grpSpPr>
        <p:sp>
          <p:nvSpPr>
            <p:cNvPr id="114" name=""/>
            <p:cNvSpPr/>
            <p:nvPr/>
          </p:nvSpPr>
          <p:spPr>
            <a:xfrm flipV="1">
              <a:off x="1812240" y="3732480"/>
              <a:ext cx="1632600" cy="6836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008400">
              <a:off x="1722240" y="437220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1008400">
              <a:off x="3425760" y="365076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411000" y="3639960"/>
            <a:ext cx="1162800" cy="473760"/>
            <a:chOff x="3411000" y="3639960"/>
            <a:chExt cx="1162800" cy="473760"/>
          </a:xfrm>
        </p:grpSpPr>
        <p:sp>
          <p:nvSpPr>
            <p:cNvPr id="118" name=""/>
            <p:cNvSpPr/>
            <p:nvPr/>
          </p:nvSpPr>
          <p:spPr>
            <a:xfrm>
              <a:off x="3523680" y="3731040"/>
              <a:ext cx="1007280" cy="302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298400">
              <a:off x="3428640" y="365760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298400">
              <a:off x="4436640" y="397656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564520" y="3809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434120" y="3965760"/>
            <a:ext cx="1177560" cy="129960"/>
            <a:chOff x="4434120" y="3965760"/>
            <a:chExt cx="1177560" cy="129960"/>
          </a:xfrm>
        </p:grpSpPr>
        <p:sp>
          <p:nvSpPr>
            <p:cNvPr id="123" name=""/>
            <p:cNvSpPr/>
            <p:nvPr/>
          </p:nvSpPr>
          <p:spPr>
            <a:xfrm>
              <a:off x="4536000" y="4034520"/>
              <a:ext cx="1051200" cy="72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320400">
              <a:off x="4439160" y="397080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20400">
              <a:off x="5487120" y="397116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257800" y="3048120"/>
            <a:ext cx="623880" cy="1955520"/>
          </a:xfrm>
          <a:custGeom>
            <a:avLst/>
            <a:gdLst/>
            <a:ahLst/>
            <a:rect l="l" t="t" r="r" b="b"/>
            <a:pathLst>
              <a:path w="187" h="601">
                <a:moveTo>
                  <a:pt x="187" y="60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84920" y="3095640"/>
            <a:ext cx="688680" cy="2030400"/>
          </a:xfrm>
          <a:custGeom>
            <a:avLst/>
            <a:gdLst/>
            <a:ahLst/>
            <a:rect l="l" t="t" r="r" b="b"/>
            <a:pathLst>
              <a:path w="434" h="1279">
                <a:moveTo>
                  <a:pt x="0" y="0"/>
                </a:moveTo>
                <a:cubicBezTo>
                  <a:pt x="43" y="56"/>
                  <a:pt x="202" y="238"/>
                  <a:pt x="260" y="338"/>
                </a:cubicBezTo>
                <a:cubicBezTo>
                  <a:pt x="318" y="438"/>
                  <a:pt x="324" y="507"/>
                  <a:pt x="351" y="598"/>
                </a:cubicBezTo>
                <a:cubicBezTo>
                  <a:pt x="378" y="689"/>
                  <a:pt x="408" y="773"/>
                  <a:pt x="421" y="886"/>
                </a:cubicBezTo>
                <a:cubicBezTo>
                  <a:pt x="434" y="999"/>
                  <a:pt x="427" y="1197"/>
                  <a:pt x="428" y="1279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88440" y="502920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near Approxi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04160" y="297180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ing discussion to positional goals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3067200"/>
                <a:ext cx="3162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695760"/>
                <a:ext cx="41148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1828800"/>
                <a:ext cx="449604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den>
                            </m:f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t quite r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ian defines changes in     relative to changes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know how a desired change 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aps to change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l that the equation of inverse kinematics is defined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we nee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562200" y="2476440"/>
                <a:ext cx="495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067360" y="3581280"/>
                <a:ext cx="495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10160" y="5181480"/>
                <a:ext cx="2247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24560" y="4610160"/>
                <a:ext cx="2171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248520" y="201924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90720" y="358128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Jacobian Problem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 system is over specified (under defin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liorate problem by limiting joints.  E.g.  Specify elbow as a 1DOF j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guarantee it is invertibl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not a square matr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ula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eat.  Pseudo Inver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uare so can be inve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hy is it okay to use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le of Virtual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666880" y="1905120"/>
                <a:ext cx="3009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J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90720" y="2514600"/>
                <a:ext cx="1218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inciple of Virtual Wor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s towards the right solution. (I.e. It’s the right idea, if not completely accu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small steps to minimize err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error, and if too large adjust step size, or size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476440" y="5105520"/>
                <a:ext cx="2667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86480" y="4648320"/>
                <a:ext cx="647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lculating 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n angle        and axis of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relative to          as defin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of       relative to change 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one column of Jacob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01840" y="4038480"/>
            <a:ext cx="1800" cy="2170080"/>
          </a:xfrm>
          <a:custGeom>
            <a:avLst/>
            <a:gdLst/>
            <a:ahLst/>
            <a:rect l="l" t="t" r="r" b="b"/>
            <a:pathLst>
              <a:path w="1" h="1367">
                <a:moveTo>
                  <a:pt x="0" y="0"/>
                </a:moveTo>
                <a:lnTo>
                  <a:pt x="0" y="1367"/>
                </a:lnTo>
              </a:path>
            </a:pathLst>
          </a:cu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49640" y="4487760"/>
            <a:ext cx="1841400" cy="859320"/>
            <a:chOff x="2249640" y="4487760"/>
            <a:chExt cx="1841400" cy="859320"/>
          </a:xfrm>
        </p:grpSpPr>
        <p:sp>
          <p:nvSpPr>
            <p:cNvPr id="158" name=""/>
            <p:cNvSpPr/>
            <p:nvPr/>
          </p:nvSpPr>
          <p:spPr>
            <a:xfrm flipV="1">
              <a:off x="2348640" y="4578840"/>
              <a:ext cx="1632600" cy="6836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008400">
              <a:off x="2258640" y="521856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008400">
              <a:off x="3962160" y="449712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947400" y="4485960"/>
            <a:ext cx="1162800" cy="473760"/>
            <a:chOff x="3947400" y="4485960"/>
            <a:chExt cx="1162800" cy="473760"/>
          </a:xfrm>
        </p:grpSpPr>
        <p:sp>
          <p:nvSpPr>
            <p:cNvPr id="162" name=""/>
            <p:cNvSpPr/>
            <p:nvPr/>
          </p:nvSpPr>
          <p:spPr>
            <a:xfrm>
              <a:off x="4060080" y="4577040"/>
              <a:ext cx="1007280" cy="302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298400">
              <a:off x="3965040" y="450360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298400">
              <a:off x="4973040" y="482256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31000" y="4952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13000" y="4876920"/>
            <a:ext cx="2727360" cy="393480"/>
          </a:xfrm>
          <a:custGeom>
            <a:avLst/>
            <a:gdLst/>
            <a:ahLst/>
            <a:rect l="l" t="t" r="r" b="b"/>
            <a:pathLst>
              <a:path w="1718" h="248">
                <a:moveTo>
                  <a:pt x="0" y="248"/>
                </a:moveTo>
                <a:lnTo>
                  <a:pt x="1718" y="0"/>
                </a:lnTo>
              </a:path>
            </a:pathLst>
          </a:cu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74960" y="50925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9080" y="442116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45160" y="3930480"/>
            <a:ext cx="296640" cy="954360"/>
          </a:xfrm>
          <a:custGeom>
            <a:avLst/>
            <a:gdLst/>
            <a:ahLst/>
            <a:rect l="l" t="t" r="r" b="b"/>
            <a:pathLst>
              <a:path w="187" h="601">
                <a:moveTo>
                  <a:pt x="187" y="601"/>
                </a:moveTo>
                <a:lnTo>
                  <a:pt x="0" y="0"/>
                </a:lnTo>
              </a:path>
            </a:pathLst>
          </a:cu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4191120"/>
            <a:ext cx="152280" cy="684000"/>
          </a:xfrm>
          <a:custGeom>
            <a:avLst/>
            <a:gdLst/>
            <a:ahLst/>
            <a:rect l="l" t="t" r="r" b="b"/>
            <a:pathLst>
              <a:path w="129" h="508">
                <a:moveTo>
                  <a:pt x="0" y="508"/>
                </a:moveTo>
                <a:lnTo>
                  <a:pt x="129" y="0"/>
                </a:lnTo>
              </a:path>
            </a:pathLst>
          </a:cu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63280" y="3809880"/>
            <a:ext cx="33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49080" y="4025880"/>
            <a:ext cx="33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19920" y="1905120"/>
                <a:ext cx="533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857680" y="1884240"/>
                <a:ext cx="571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172200" y="2362320"/>
                <a:ext cx="1371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066680" y="2373480"/>
                <a:ext cx="648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67160" y="233028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905440" y="2763720"/>
                <a:ext cx="57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590920" y="281952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considering positional go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following variabl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end effecto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ith Joint pos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– ith Joint axis of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609560" y="3527280"/>
                <a:ext cx="457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589040" y="3102120"/>
                <a:ext cx="457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90840" y="4027320"/>
                <a:ext cx="533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Jacobi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error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rror &gt; tolerance th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4 till within toler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276720" y="3048120"/>
                <a:ext cx="609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686480" y="4191120"/>
                <a:ext cx="2666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3657600"/>
                <a:ext cx="3467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15000" y="4876920"/>
                <a:ext cx="2133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∂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66880" y="2514600"/>
                <a:ext cx="3162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ors are animated in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ions are independent of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have more realistic response to what the Actors are interacting wi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 mechanism for reacting to goals specified during the ga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      to entir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until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max steps is reach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276720" y="1981080"/>
                <a:ext cx="2171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457360" y="2590920"/>
                <a:ext cx="6858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733920" y="3124080"/>
                <a:ext cx="25527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end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izes joint angle rates.  Configuration produced may not be natural 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gain values for each joint. Add “stiffness” I.e. Bias which joints are m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constraints, Clamp joint ang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these ideas slow down convergence of the algorithm.  Need more st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force.       transforms to internal velo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20680" y="4964040"/>
                <a:ext cx="647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200400" y="4898880"/>
                <a:ext cx="723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ne last th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stated previously, the Jacobian is a linear approximation to the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the pseudo inverse is an approximation to solve for intractability of the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already cheating, why not cheat more?  Can simply use        as approximation.  Slower convergence, but much cheaper to compute t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657600" y="4267080"/>
                <a:ext cx="609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352680" y="5105520"/>
                <a:ext cx="609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yclic Coordinate Desc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acobian is hard.  It deals with entire system as a whole.  Good results, more complicated to code, and 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’s too much work, lets deal with each joint individ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only.  Not as mathematically grounded as the Jacob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C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problem to local consideration at each joint.  Start at leaf and move u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change in joint needed to minimize “error”.  Error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619600" y="3581280"/>
                <a:ext cx="25146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638360" y="4724280"/>
                <a:ext cx="2857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19280" y="5638680"/>
                <a:ext cx="26287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C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rotation        necessary to align      in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y current joint by        and adjust entire chain below.  This is import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p chain and rep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 over entire chain ti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489560" y="3314880"/>
                <a:ext cx="164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489560" y="3314880"/>
                <a:ext cx="164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05240" y="1981080"/>
                <a:ext cx="800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429000" y="2438280"/>
                <a:ext cx="533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095560" y="2438280"/>
                <a:ext cx="495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105520" y="3048120"/>
                <a:ext cx="799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6210360" y="4686480"/>
                <a:ext cx="255276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oa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end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tty easy.   Much simpler than the Jacob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s.  Takes more updates of chain and steps than Jacobian does.  Simpler individual steps, need more of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dend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end joints first.  Heuristic inherently favors them.  Local minima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in unnatural configurations.  E.g Wrist bent oddly to reach goal.  Worse than Jacobian about th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ally Gauss-Seidel.  SOR can hel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Jeff La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win3d.com/gdm/1998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thropomorphi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2 solutions are general purpose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games have people.  We know something abou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principle of computer science.  Use knowledge of problem domain to simplify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 hierarchical skeleton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joint is defined local to its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 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s set for entire structu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global position of end j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895480" y="3146400"/>
                <a:ext cx="571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077840" y="4202280"/>
                <a:ext cx="495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0400" y="471312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838760" y="3646440"/>
                <a:ext cx="57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inbow 6: Lockdow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ve wrist alone. Inaccurate, but good enough and difficult to get r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lbow as a 1DOF joint.  Not precisely accurate.  But good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the shoulder as 3DOF joint with no constraints.  Again, not entirely true but good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inbow 6: Lockdow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 can be run through same algorithm as Arm.  (most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ee can be simulated as a 1DOF joint. (Elb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p can be simulated as a 3DOF joint (Shoul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second pass to fix Ank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bow defines the distance between the shoulder and the end effec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Trig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w of Cos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992840" y="3192120"/>
            <a:ext cx="1841400" cy="859320"/>
            <a:chOff x="4992840" y="3192120"/>
            <a:chExt cx="1841400" cy="859320"/>
          </a:xfrm>
        </p:grpSpPr>
        <p:sp>
          <p:nvSpPr>
            <p:cNvPr id="237" name=""/>
            <p:cNvSpPr/>
            <p:nvPr/>
          </p:nvSpPr>
          <p:spPr>
            <a:xfrm flipV="1">
              <a:off x="5091840" y="3283200"/>
              <a:ext cx="1632600" cy="6836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008400">
              <a:off x="5001840" y="392292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1008400">
              <a:off x="6705360" y="320148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690600" y="3190680"/>
            <a:ext cx="1162800" cy="473760"/>
            <a:chOff x="6690600" y="3190680"/>
            <a:chExt cx="1162800" cy="473760"/>
          </a:xfrm>
        </p:grpSpPr>
        <p:sp>
          <p:nvSpPr>
            <p:cNvPr id="241" name=""/>
            <p:cNvSpPr/>
            <p:nvPr/>
          </p:nvSpPr>
          <p:spPr>
            <a:xfrm>
              <a:off x="6803280" y="3281760"/>
              <a:ext cx="1007280" cy="302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298400">
              <a:off x="6708240" y="320832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298400">
              <a:off x="7716240" y="352728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051520" y="3589200"/>
            <a:ext cx="2732040" cy="395280"/>
          </a:xfrm>
          <a:custGeom>
            <a:avLst/>
            <a:gdLst/>
            <a:ahLst/>
            <a:rect l="l" t="t" r="r" b="b"/>
            <a:pathLst>
              <a:path w="1721" h="249">
                <a:moveTo>
                  <a:pt x="0" y="249"/>
                </a:moveTo>
                <a:lnTo>
                  <a:pt x="1721" y="0"/>
                </a:lnTo>
              </a:path>
            </a:pathLst>
          </a:custGeom>
          <a:noFill/>
          <a:ln w="1908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00800" y="3360600"/>
            <a:ext cx="663480" cy="231840"/>
          </a:xfrm>
          <a:custGeom>
            <a:avLst/>
            <a:gdLst/>
            <a:ahLst/>
            <a:rect l="l" t="t" r="r" b="b"/>
            <a:pathLst>
              <a:path w="418" h="146">
                <a:moveTo>
                  <a:pt x="0" y="43"/>
                </a:moveTo>
                <a:cubicBezTo>
                  <a:pt x="84" y="95"/>
                  <a:pt x="170" y="146"/>
                  <a:pt x="240" y="139"/>
                </a:cubicBezTo>
                <a:cubicBezTo>
                  <a:pt x="310" y="132"/>
                  <a:pt x="381" y="29"/>
                  <a:pt x="418" y="0"/>
                </a:cubicBezTo>
              </a:path>
            </a:pathLst>
          </a:custGeom>
          <a:noFill/>
          <a:ln cap="rnd" w="19080">
            <a:solidFill>
              <a:srgbClr val="ff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95920" y="32767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25080" y="3332160"/>
            <a:ext cx="3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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240" y="3124080"/>
            <a:ext cx="3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80280" y="3787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4680" y="4419720"/>
                <a:ext cx="52956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at, simply run one step of the CCD algorithm on the shoul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e!  Simple, accurate within a tolerable margin, and chea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man, Chris,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verse Kinematics and Geometric Constraints for Articulated Figure Manipulation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imon Fraser University. 199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redith, Michael and Maddock, Steve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Real-Time Inverse Kinematics: The Return of the Jacobian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niversity of Shef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lani, Goswami, and Badler,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l-Time Inverse Kinematics Techniques for Anthropomorphic Limbs”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Pennsylvania. 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w, Jonathan, 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 My God!  I Inverted Kine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Game Developer.  September 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, Rick, 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mputer Animation: Algorithms and Techniq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, Morgan-Kaufmann, San Francisco, 2001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he kinematic chain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321800">
            <a:off x="1752480" y="3962160"/>
            <a:ext cx="1752840" cy="457200"/>
          </a:xfrm>
          <a:prstGeom prst="hexagon">
            <a:avLst>
              <a:gd name="adj" fmla="val 191692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4782200">
            <a:off x="1604880" y="5098680"/>
            <a:ext cx="1752480" cy="457200"/>
          </a:xfrm>
          <a:prstGeom prst="hexagon">
            <a:avLst>
              <a:gd name="adj" fmla="val 191653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1439200">
            <a:off x="3090960" y="3384720"/>
            <a:ext cx="1752480" cy="457200"/>
          </a:xfrm>
          <a:prstGeom prst="hexagon">
            <a:avLst>
              <a:gd name="adj" fmla="val 191653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80400">
            <a:off x="4548240" y="3537000"/>
            <a:ext cx="1752480" cy="457200"/>
          </a:xfrm>
          <a:prstGeom prst="hexagon">
            <a:avLst>
              <a:gd name="adj" fmla="val 191653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61600">
            <a:off x="5909760" y="3841920"/>
            <a:ext cx="1752840" cy="457200"/>
          </a:xfrm>
          <a:prstGeom prst="hexagon">
            <a:avLst>
              <a:gd name="adj" fmla="val 191692"/>
              <a:gd name="vf" fmla="val 115470"/>
            </a:avLst>
          </a:pr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769400">
            <a:off x="7358040" y="3841560"/>
            <a:ext cx="990720" cy="533160"/>
          </a:xfrm>
          <a:custGeom>
            <a:avLst/>
            <a:gdLst>
              <a:gd name="textAreaLeft" fmla="*/ 0 w 990720"/>
              <a:gd name="textAreaRight" fmla="*/ 991080 w 9907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119" y="0"/>
                </a:lnTo>
                <a:lnTo>
                  <a:pt x="21600" y="10800"/>
                </a:lnTo>
                <a:lnTo>
                  <a:pt x="9119" y="21600"/>
                </a:lnTo>
                <a:lnTo>
                  <a:pt x="0" y="21600"/>
                </a:lnTo>
                <a:lnTo>
                  <a:pt x="12481" y="10800"/>
                </a:lnTo>
                <a:close/>
              </a:path>
            </a:pathLst>
          </a:custGeom>
          <a:solidFill>
            <a:srgbClr val="ffff00"/>
          </a:solidFill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7662960" y="445140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04760" y="5708520"/>
                <a:ext cx="1562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57200" y="399420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752480" y="2971800"/>
                <a:ext cx="163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0" y="2857680"/>
                <a:ext cx="1676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762440" y="4114800"/>
                <a:ext cx="1638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ions can be thought of as driving the kinematics in a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reaction to world. I.e. Position a limb based on a goal defined by game situ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method given goal position to update     to achieve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400480" y="5105520"/>
                <a:ext cx="495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verse Kinemat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matic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fore Inverse Kinematics is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As a general problem this is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390840" y="198108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952720" y="3105000"/>
                <a:ext cx="21718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677960" y="3925800"/>
            <a:ext cx="1440" cy="2170080"/>
          </a:xfrm>
          <a:custGeom>
            <a:avLst/>
            <a:gdLst/>
            <a:ahLst/>
            <a:rect l="l" t="t" r="r" b="b"/>
            <a:pathLst>
              <a:path w="1" h="1367">
                <a:moveTo>
                  <a:pt x="0" y="0"/>
                </a:moveTo>
                <a:lnTo>
                  <a:pt x="0" y="1367"/>
                </a:lnTo>
              </a:path>
            </a:pathLst>
          </a:custGeom>
          <a:noFill/>
          <a:ln cap="sq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611360" y="4622760"/>
            <a:ext cx="1920960" cy="538200"/>
            <a:chOff x="1611360" y="4622760"/>
            <a:chExt cx="1920960" cy="538200"/>
          </a:xfrm>
        </p:grpSpPr>
        <p:sp>
          <p:nvSpPr>
            <p:cNvPr id="74" name=""/>
            <p:cNvSpPr/>
            <p:nvPr/>
          </p:nvSpPr>
          <p:spPr>
            <a:xfrm flipV="1">
              <a:off x="1703520" y="4697280"/>
              <a:ext cx="1725480" cy="3938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11360" y="5041800"/>
              <a:ext cx="11916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13160" y="4622760"/>
              <a:ext cx="119160" cy="11880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401640" y="4605120"/>
            <a:ext cx="1162080" cy="473400"/>
            <a:chOff x="3401640" y="4605120"/>
            <a:chExt cx="1162080" cy="473400"/>
          </a:xfrm>
        </p:grpSpPr>
        <p:sp>
          <p:nvSpPr>
            <p:cNvPr id="78" name=""/>
            <p:cNvSpPr/>
            <p:nvPr/>
          </p:nvSpPr>
          <p:spPr>
            <a:xfrm>
              <a:off x="3513960" y="4695840"/>
              <a:ext cx="1006920" cy="30204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298400">
              <a:off x="3419280" y="4622400"/>
              <a:ext cx="11844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298400">
              <a:off x="4426920" y="494172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21473400">
            <a:off x="5106600" y="4001760"/>
            <a:ext cx="119160" cy="119160"/>
          </a:xfrm>
          <a:prstGeom prst="ellipse">
            <a:avLst/>
          </a:prstGeom>
          <a:solidFill>
            <a:srgbClr val="000000"/>
          </a:solidFill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4720" y="3849840"/>
            <a:ext cx="3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2280" y="46879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06560" y="4535640"/>
            <a:ext cx="1219320" cy="304560"/>
          </a:xfrm>
          <a:prstGeom prst="line">
            <a:avLst/>
          </a:prstGeom>
          <a:ln cap="sq"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94960" y="4875120"/>
            <a:ext cx="662040" cy="235080"/>
          </a:xfrm>
          <a:prstGeom prst="line">
            <a:avLst/>
          </a:prstGeom>
          <a:ln cap="sq"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649760" y="4763880"/>
            <a:ext cx="609480" cy="75960"/>
          </a:xfrm>
          <a:prstGeom prst="line">
            <a:avLst/>
          </a:prstGeom>
          <a:ln cap="sq"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05080" y="4371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499284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30760" y="4503600"/>
            <a:ext cx="366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429080" y="4808160"/>
            <a:ext cx="1162440" cy="254880"/>
            <a:chOff x="4429080" y="4808160"/>
            <a:chExt cx="1162440" cy="254880"/>
          </a:xfrm>
        </p:grpSpPr>
        <p:sp>
          <p:nvSpPr>
            <p:cNvPr id="91" name=""/>
            <p:cNvSpPr/>
            <p:nvPr/>
          </p:nvSpPr>
          <p:spPr>
            <a:xfrm flipV="1">
              <a:off x="4527720" y="4875120"/>
              <a:ext cx="1043640" cy="1252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1486000">
              <a:off x="4430880" y="494172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1486000">
              <a:off x="5470560" y="4809960"/>
              <a:ext cx="118800" cy="119160"/>
            </a:xfrm>
            <a:prstGeom prst="ellipse">
              <a:avLst/>
            </a:prstGeom>
            <a:solidFill>
              <a:srgbClr val="000000"/>
            </a:solidFill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66800" y="5102280"/>
            <a:ext cx="175284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484440" y="4447800"/>
            <a:ext cx="990720" cy="2286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83800" y="5000400"/>
            <a:ext cx="744840" cy="279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05200" y="4764240"/>
            <a:ext cx="37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MS Shell Dlg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42000" y="4514760"/>
            <a:ext cx="37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MS Shell Dlg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43520" y="4916520"/>
            <a:ext cx="372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MS Shell Dlg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ypes of solu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 that can be directly sol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red, practically impossible as a general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ortunately only practical option for general sol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ree Common Meth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obian (Numer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clic Coordinate Descent. (Numeric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ropomorphic. (Analytical?  Depen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Jacobia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  A linear approximation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rix of partial derivatives of entir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case, defined relativ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s how     changes relative to instantaneous changes in th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772400" y="1981080"/>
                <a:ext cx="45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38560" y="5334120"/>
                <a:ext cx="1905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∂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667560" y="3657600"/>
                <a:ext cx="457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390840" y="4229280"/>
                <a:ext cx="4572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sential Math for Gam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9:57:16Z</dcterms:created>
  <dc:creator>Jason Clark</dc:creator>
  <dc:description/>
  <dc:language>en-US</dc:language>
  <cp:lastModifiedBy>Jim Van Verth</cp:lastModifiedBy>
  <dcterms:modified xsi:type="dcterms:W3CDTF">2005-03-14T01:57:19Z</dcterms:modified>
  <cp:revision>89</cp:revision>
  <dc:subject/>
  <dc:title>PowerPoint Presentation</dc:title>
</cp:coreProperties>
</file>